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356B-10D0-45F8-B869-B0150660E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5EB7-4C54-4A5C-81F0-604A18755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7455CD-5C23-4B91-817F-8E4A61D9D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4B7735-68D7-48F3-B015-4E4D82C96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8BE87F-0866-42A0-BAC2-D9820A164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C92FDF-95D3-4D4A-8426-D4EA8863F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91DB86-0438-4DB8-9833-456D0C455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C62DCA-CB0A-417D-B17E-2AF435239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E37B43-E615-40ED-ADCE-D8C10CB75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2A86F7-85DC-4575-811A-16AD940B7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F6EAD0-EAA8-4AE0-9E20-96EB9B51A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8D5ADA-9555-411F-8E23-C9443F3FA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4525-5F6C-4EB6-A566-6A4453315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417763-0132-4E1E-9BBD-E62A8EF6A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4414FD-25CE-4521-AA8D-F0298B95C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26815C-7247-4790-9B3E-8278FF013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DE08E7-FED9-4AB7-9F67-3C897F465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3B0E70-FD1B-415B-837B-22A019612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F5AD2F-E234-4D61-89F9-2FC306B69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7ECEE7-2CB9-4B3A-899D-CE7D6EFE4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388BBE-CB6F-488B-8D17-1E5CE2668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EA731B-2252-45E1-AA22-46B1A06CB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217665-8207-457B-9749-893AC943F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E79E-A54A-4E69-801D-342416E01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A487CB-1B11-4938-BE3E-C593DAB53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2AFAD9-277C-4050-AB0E-E25D78E04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7EC20D-EED1-4A4A-8E86-A57A8C098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C74B70-34D7-4B23-884D-C8A0D24D0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E4C4B9-A1E5-41C2-9E06-8EB66848E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DF2CB0-71D1-4188-B67E-C592E5284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19F5A2-D5A9-4678-888F-C3C04575D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BE32FF-5687-443F-A007-EE1290BBE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C504C0-C6D5-414C-88B5-23752E704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AD8CAA-AE05-401D-B23C-B6461B5E2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8C4E9-BA9D-4680-933D-928A5193E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4CCF9B-19B2-4E59-98C5-D20A64365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663161-A610-42AE-AD1B-BEF7E4632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CF1AB1-6A37-45A8-AF9E-12193CD8F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3EFCD5-FCF0-4B9B-9680-E1B84F09E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9E9572-3FBC-46CF-B8C3-158AC84AE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2D39E2-F417-41DA-AE00-133010DB8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5BD86E-D241-48CC-B8B2-07F04D034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B1DBD1-77B3-4DD7-9173-8F714E826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18E44B-949F-4DF2-A356-E41825C27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509877-3C11-4BEF-A7BE-3F7C57D2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F4321-3C89-4C0E-999C-BBB0B7DB4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B60588-CFCD-4F73-A390-484EDA6B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E28F45-0EAD-43BF-966D-ABC48ADB2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B6D0D4-413D-4E4C-A72C-FB3CF477E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E544D0-B1E1-427D-A3E1-2FE6272FF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C0B444-4416-4180-9167-7A3587CC9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2FD05-6C96-48C6-9CBF-03D925AF5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956DE-A98C-43A4-958F-833DD6162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956A4-B592-40E9-8D80-11A4FDF2C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49609-C9F7-488C-9E18-9375F9D55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9B6C8-DD6E-40F6-9FD0-9F6DDA3C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8CC2-2E1A-4365-B4E3-73BA1D502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ABC69-EB76-45EA-974A-0413F4CFC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DEE13-AFB9-461D-8A43-8AC1C9314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233F2-07FE-4904-8CEF-164789147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3E4E8-390C-46D5-82AA-AEB245A07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2F890-0970-4B94-A528-50A46AC7D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F9BD8-6653-4AF1-8108-E2A63F8D2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1CB37-28FC-4D14-A6E3-59F56B570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277BA-D296-41AE-B094-DA0946177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152BA-39C1-4FD5-9021-6B6FF91CE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AF7C0-0CD5-47B7-BE94-6A8F2527A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8785-56A9-43C1-8D54-D24B9AD21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07B4F-E385-4187-B1F8-768D2BF97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A7C1F-D72D-43F3-AE52-4BEAED158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E4C49-93B4-4D93-A400-A6A640AD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6AF41-1059-43F4-A929-43A0D0F6B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3F26C-3691-4DB5-9C86-D0C3818EA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C7136-EC6D-41F2-AD92-D789D54B6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35533-8063-4914-8A7A-057B53CFD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4185F-22A3-41D5-B15B-5EAD9BE38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43B170-BA6E-49CB-A84B-A3D749FE7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4FADB-FB6B-4F02-A2E0-05B623887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39BE-BE7F-4F02-B603-4E123F7F0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76EB7-4927-40CD-9012-FDE13D585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36DF6-DD64-49D6-9CAA-14A75AB4F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B8C22C-932E-4C05-AC83-E5DFC615A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05B2B-8ABA-46E3-92F6-DCDBC8222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65D72-C15A-4A42-A35A-5866A4558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2C0E7F-CDAF-4570-9DE2-1CC5405F7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81A47-E24C-4FB5-87C4-C6449E50D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AEF36-B670-4708-AFD0-7BFEE4D61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EC591-2055-4A0C-9063-2E84F9CF5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B8FB9-9922-430A-80A4-9A28B4990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E2AE-BD8D-408F-BDF1-F2A3204D4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2BB0B8-3B8B-4BB6-8991-6157BBEA0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69C68A-5D3F-4E74-936B-CACD3A552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998FF5-5120-4D2B-96A2-6177A9895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8D9A6-A5F7-4799-8F93-7827EFC71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D7684-2A37-4511-BF72-4884610D2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2F6244-5C3B-4B26-9A25-5AAA37607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751B39-A341-482F-BD84-CE22A3260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7685E7-3233-4293-87D7-22AD0E2E2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A7076-8318-4DF6-86D7-10D916D6B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39173E-BBDF-4A4B-B93E-CE7F70C9D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9962-E3C4-4A8E-9A9E-8F4F29028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2AAE8-1284-496C-8DC3-A83344BDC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2D7934-B057-4759-9579-5FF7C85A7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1C9F86-1AE2-43E9-BC6B-57F29AD97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E121BA-9CCD-428A-9721-E5E65EAF9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D09C03-8045-4FC6-8E10-728398F3D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E2D4B1-666D-4A32-97FA-E28497DE2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24F0FA-5E67-498E-91C6-E9A4AA14B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B6BC90-D748-46C1-9717-F30DFA9F8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0F46FB-7299-47CD-A302-4F2B56ED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2CB045-F9B9-4D5E-BEED-6F6F6EAD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BB52-26A0-468C-9011-E0A82F192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7B204E-A83C-4723-AFA5-9E9D5DCF4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4486C3-9F40-4358-B7D3-4CBD1DD80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D9676E-66DD-4FC8-AC35-079FD1983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0B3075-0024-47D0-8401-043A1FF77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379621-0EF2-4B9C-86F9-7B9E9BDF5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867BE9-90F9-42B0-8501-C9E5DFAE2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9B844D-98C4-4754-80BD-DF1153B87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CBD94E-8174-4F91-9A62-A8E71E3E9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31F6D9-F49E-4A52-9D40-F00E3446C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C32D5F-43FD-4ACF-A69F-501376921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9E7D-7671-493F-AAC9-3404028BE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3A3DFE-9988-4B5C-9888-3125F946D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0951BA-8146-4348-B15C-30D50992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D6E789-677E-4FB5-AB59-BF3F91A79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25E793-1B3D-4070-B053-BC212F408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83755E-AE9A-40C7-A54B-80EECB730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FA8D97-9A9F-41D5-B879-A71EED601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5ED1FF-08BC-46C3-921C-8A72165BA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00ECB5-1138-480C-BD9E-28BF476EF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5A6B55-D853-4F4E-9B08-6E733B3AA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8CF476-F18C-4C49-9630-6BF923D21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C28D-7213-4BB2-BB06-B461918F6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6858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DDF82C-8FC8-4B8C-A352-FF8A8D03C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BC5171-1D33-4B4B-A817-C72F01BF6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002B4F-0832-449C-B9FE-E903937C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5A65C7-4635-4559-A856-FFC21703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85800" y="3964320"/>
            <a:ext cx="77724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CD9045-A54D-4C12-88EC-2A2FB6BD0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8580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4668480" y="3964320"/>
            <a:ext cx="3792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E06823-7A6F-4FDA-9502-0C3CB1493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685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31380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5941440" y="3964320"/>
            <a:ext cx="25023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7AA5A3-0C1D-4F3C-AC04-19005D0A9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6BCC51-4BDD-4ED1-96D2-09D24BAFD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AF82C3-2938-4D92-B552-5B3F1BC4C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4E07EF-AA13-425A-A45F-66FD07A63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4AD47D-C03D-486B-9148-11AC46DC7109}" type="datetime">
              <a:rPr b="0" lang="en-US" sz="900" spc="-1" strike="noStrike">
                <a:solidFill>
                  <a:srgbClr val="4d4d4d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0375927-6EB3-418B-B30A-883C48E2209D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35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</p:grpSp>
      <p:sp>
        <p:nvSpPr>
          <p:cNvPr id="437" name="Freeform 8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8" name="Freeform 9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39" name="Freeform 10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0" name="Freeform 11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28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93307A-E302-4954-BA8D-8E5AD8792A4F}" type="datetime">
              <a:rPr b="0" lang="en-US" sz="900" spc="-1" strike="noStrike">
                <a:solidFill>
                  <a:srgbClr val="4d4d4d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29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0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90B137-86B2-4109-8566-79ADB9CAE0F2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2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83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</p:grpSp>
      <p:sp>
        <p:nvSpPr>
          <p:cNvPr id="485" name="Freeform 8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6" name="Freeform 9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7" name="Freeform 10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8" name="Freeform 11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31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FBDD93-4C9C-4633-A491-D72DA77D5841}" type="datetime">
              <a:rPr b="0" lang="en-US" sz="900" spc="-1" strike="noStrike">
                <a:solidFill>
                  <a:srgbClr val="4d4d4d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32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33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D678F3-8541-4328-83E6-D00E754385DA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0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31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</p:grpSp>
      <p:sp>
        <p:nvSpPr>
          <p:cNvPr id="533" name="Freeform 8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34" name="Freeform 9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35" name="Freeform 10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36" name="Freeform 11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34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873349-AC2E-41D7-AAD2-C5D655163BAE}" type="datetime">
              <a:rPr b="0" lang="en-US" sz="900" spc="-1" strike="noStrike">
                <a:solidFill>
                  <a:srgbClr val="4d4d4d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35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36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9B9876-6D15-4998-BC31-2CA309A3A6CC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</p:grpSp>
      <p:sp>
        <p:nvSpPr>
          <p:cNvPr id="47" name="Freeform 8"/>
          <p:cNvSpPr/>
          <p:nvPr/>
        </p:nvSpPr>
        <p:spPr>
          <a:xfrm>
            <a:off x="0" y="5292720"/>
            <a:ext cx="9144000" cy="1442880"/>
          </a:xfrm>
          <a:custGeom>
            <a:avLst/>
            <a:gdLst/>
            <a:ahLst/>
            <a:rect l="l" t="t" r="r" b="b"/>
            <a:pathLst>
              <a:path w="9089556" h="1443038">
                <a:moveTo>
                  <a:pt x="57" y="7145"/>
                </a:moveTo>
                <a:lnTo>
                  <a:pt x="9089556" y="0"/>
                </a:lnTo>
                <a:cubicBezTo>
                  <a:pt x="9087979" y="82550"/>
                  <a:pt x="9088768" y="172243"/>
                  <a:pt x="9087191" y="254793"/>
                </a:cubicBezTo>
                <a:lnTo>
                  <a:pt x="6260746" y="1443038"/>
                </a:lnTo>
                <a:lnTo>
                  <a:pt x="0" y="366713"/>
                </a:lnTo>
                <a:lnTo>
                  <a:pt x="57" y="7145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grpSp>
        <p:nvGrpSpPr>
          <p:cNvPr id="48" name="Freeform 9"/>
          <p:cNvGrpSpPr/>
          <p:nvPr/>
        </p:nvGrpSpPr>
        <p:grpSpPr>
          <a:xfrm>
            <a:off x="0" y="5291280"/>
            <a:ext cx="9144000" cy="1444320"/>
            <a:chOff x="0" y="5291280"/>
            <a:chExt cx="9144000" cy="1444320"/>
          </a:xfrm>
        </p:grpSpPr>
        <p:pic>
          <p:nvPicPr>
            <p:cNvPr id="49" name="Freeform 9" descr=""/>
            <p:cNvPicPr/>
            <p:nvPr/>
          </p:nvPicPr>
          <p:blipFill>
            <a:blip r:embed="rId4"/>
            <a:stretch/>
          </p:blipFill>
          <p:spPr>
            <a:xfrm>
              <a:off x="0" y="5291280"/>
              <a:ext cx="9144000" cy="14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0" y="5292720"/>
              <a:ext cx="9144000" cy="14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</p:grpSp>
      <p:sp>
        <p:nvSpPr>
          <p:cNvPr id="51" name="Freeform 10"/>
          <p:cNvSpPr/>
          <p:nvPr/>
        </p:nvSpPr>
        <p:spPr>
          <a:xfrm>
            <a:off x="0" y="5546880"/>
            <a:ext cx="9147240" cy="1312560"/>
          </a:xfrm>
          <a:custGeom>
            <a:avLst/>
            <a:gdLst/>
            <a:ahLst/>
            <a:rect l="l" t="t" r="r" b="b"/>
            <a:pathLst>
              <a:path w="9117860" h="1314449">
                <a:moveTo>
                  <a:pt x="0" y="130968"/>
                </a:moveTo>
                <a:lnTo>
                  <a:pt x="6305550" y="1197768"/>
                </a:lnTo>
                <a:lnTo>
                  <a:pt x="9113111" y="0"/>
                </a:lnTo>
                <a:lnTo>
                  <a:pt x="9117860" y="1314449"/>
                </a:lnTo>
                <a:lnTo>
                  <a:pt x="0" y="1312068"/>
                </a:lnTo>
                <a:lnTo>
                  <a:pt x="0" y="130968"/>
                </a:lnTo>
                <a:close/>
              </a:path>
            </a:pathLst>
          </a:custGeom>
          <a:gradFill rotWithShape="0">
            <a:gsLst>
              <a:gs pos="0">
                <a:srgbClr val="fde99f"/>
              </a:gs>
              <a:gs pos="100000">
                <a:srgbClr val="fcde7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0" y="526248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3" name="Freeform 12"/>
          <p:cNvSpPr/>
          <p:nvPr/>
        </p:nvSpPr>
        <p:spPr>
          <a:xfrm>
            <a:off x="0" y="5502240"/>
            <a:ext cx="9144000" cy="1271520"/>
          </a:xfrm>
          <a:custGeom>
            <a:avLst/>
            <a:gdLst/>
            <a:ahLst/>
            <a:rect l="l" t="t" r="r" b="b"/>
            <a:pathLst>
              <a:path w="9144066" h="1271150">
                <a:moveTo>
                  <a:pt x="2252" y="121494"/>
                </a:moveTo>
                <a:lnTo>
                  <a:pt x="6307948" y="1194321"/>
                </a:lnTo>
                <a:lnTo>
                  <a:pt x="9144066" y="0"/>
                </a:lnTo>
                <a:cubicBezTo>
                  <a:pt x="9143272" y="26405"/>
                  <a:pt x="9142477" y="52809"/>
                  <a:pt x="9141683" y="79214"/>
                </a:cubicBezTo>
                <a:lnTo>
                  <a:pt x="6315286" y="1271150"/>
                </a:lnTo>
                <a:lnTo>
                  <a:pt x="65" y="200706"/>
                </a:lnTo>
                <a:cubicBezTo>
                  <a:pt x="0" y="172714"/>
                  <a:pt x="2317" y="149486"/>
                  <a:pt x="2252" y="12149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DAB046-049F-4792-ACF7-08B584F535ED}" type="datetime">
              <a:rPr b="0" lang="en-US" sz="900" spc="-1" strike="noStrike">
                <a:solidFill>
                  <a:srgbClr val="4d4d4d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A274CE-9D14-4BE5-976F-745ED8627F4E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96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</p:grpSp>
      <p:sp>
        <p:nvSpPr>
          <p:cNvPr id="98" name="Freeform 8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9" name="Freeform 9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0" name="Freeform 10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1" name="Freeform 11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063760F-91A5-4DAB-8882-F9230A4C6983}" type="datetime">
              <a:rPr b="0" lang="en-US" sz="900" spc="-1" strike="noStrike">
                <a:solidFill>
                  <a:srgbClr val="4d4d4d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64AD8F-BBC1-4FDE-963E-745E8EDBE48E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4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</p:grpSp>
      <p:sp>
        <p:nvSpPr>
          <p:cNvPr id="146" name="Freeform 8"/>
          <p:cNvSpPr/>
          <p:nvPr/>
        </p:nvSpPr>
        <p:spPr>
          <a:xfrm>
            <a:off x="0" y="5546880"/>
            <a:ext cx="9147240" cy="1312560"/>
          </a:xfrm>
          <a:custGeom>
            <a:avLst/>
            <a:gdLst/>
            <a:ahLst/>
            <a:rect l="l" t="t" r="r" b="b"/>
            <a:pathLst>
              <a:path w="9117860" h="1314449">
                <a:moveTo>
                  <a:pt x="0" y="130968"/>
                </a:moveTo>
                <a:lnTo>
                  <a:pt x="6305550" y="1197768"/>
                </a:lnTo>
                <a:lnTo>
                  <a:pt x="9113111" y="0"/>
                </a:lnTo>
                <a:lnTo>
                  <a:pt x="9117860" y="1314449"/>
                </a:lnTo>
                <a:lnTo>
                  <a:pt x="0" y="1312068"/>
                </a:lnTo>
                <a:lnTo>
                  <a:pt x="0" y="130968"/>
                </a:lnTo>
                <a:close/>
              </a:path>
            </a:pathLst>
          </a:custGeom>
          <a:gradFill rotWithShape="0">
            <a:gsLst>
              <a:gs pos="0">
                <a:srgbClr val="cfefa4"/>
              </a:gs>
              <a:gs pos="100000">
                <a:srgbClr val="b7e7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47" name="Freeform 9"/>
          <p:cNvSpPr/>
          <p:nvPr/>
        </p:nvSpPr>
        <p:spPr>
          <a:xfrm>
            <a:off x="0" y="5292720"/>
            <a:ext cx="9144000" cy="1442880"/>
          </a:xfrm>
          <a:custGeom>
            <a:avLst/>
            <a:gdLst/>
            <a:ahLst/>
            <a:rect l="l" t="t" r="r" b="b"/>
            <a:pathLst>
              <a:path w="9089556" h="1443038">
                <a:moveTo>
                  <a:pt x="57" y="7145"/>
                </a:moveTo>
                <a:lnTo>
                  <a:pt x="9089556" y="0"/>
                </a:lnTo>
                <a:cubicBezTo>
                  <a:pt x="9087979" y="82550"/>
                  <a:pt x="9088768" y="172243"/>
                  <a:pt x="9087191" y="254793"/>
                </a:cubicBezTo>
                <a:lnTo>
                  <a:pt x="6260746" y="1443038"/>
                </a:lnTo>
                <a:lnTo>
                  <a:pt x="0" y="366713"/>
                </a:lnTo>
                <a:lnTo>
                  <a:pt x="57" y="7145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grpSp>
        <p:nvGrpSpPr>
          <p:cNvPr id="148" name="Freeform 10"/>
          <p:cNvGrpSpPr/>
          <p:nvPr/>
        </p:nvGrpSpPr>
        <p:grpSpPr>
          <a:xfrm>
            <a:off x="0" y="5291280"/>
            <a:ext cx="9144000" cy="1444320"/>
            <a:chOff x="0" y="5291280"/>
            <a:chExt cx="9144000" cy="1444320"/>
          </a:xfrm>
        </p:grpSpPr>
        <p:pic>
          <p:nvPicPr>
            <p:cNvPr id="149" name="Freeform 10" descr=""/>
            <p:cNvPicPr/>
            <p:nvPr/>
          </p:nvPicPr>
          <p:blipFill>
            <a:blip r:embed="rId4"/>
            <a:stretch/>
          </p:blipFill>
          <p:spPr>
            <a:xfrm>
              <a:off x="0" y="5291280"/>
              <a:ext cx="9144000" cy="14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0" y="5292720"/>
              <a:ext cx="9144000" cy="14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</p:grpSp>
      <p:sp>
        <p:nvSpPr>
          <p:cNvPr id="151" name="Rectangle 11"/>
          <p:cNvSpPr/>
          <p:nvPr/>
        </p:nvSpPr>
        <p:spPr>
          <a:xfrm>
            <a:off x="0" y="5262480"/>
            <a:ext cx="91440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2" name="Freeform 12"/>
          <p:cNvSpPr/>
          <p:nvPr/>
        </p:nvSpPr>
        <p:spPr>
          <a:xfrm>
            <a:off x="0" y="5502240"/>
            <a:ext cx="9144000" cy="1271520"/>
          </a:xfrm>
          <a:custGeom>
            <a:avLst/>
            <a:gdLst/>
            <a:ahLst/>
            <a:rect l="l" t="t" r="r" b="b"/>
            <a:pathLst>
              <a:path w="9144066" h="1271150">
                <a:moveTo>
                  <a:pt x="2252" y="121494"/>
                </a:moveTo>
                <a:lnTo>
                  <a:pt x="6307948" y="1194321"/>
                </a:lnTo>
                <a:lnTo>
                  <a:pt x="9144066" y="0"/>
                </a:lnTo>
                <a:cubicBezTo>
                  <a:pt x="9143272" y="26405"/>
                  <a:pt x="9142477" y="52809"/>
                  <a:pt x="9141683" y="79214"/>
                </a:cubicBezTo>
                <a:lnTo>
                  <a:pt x="6315286" y="1271150"/>
                </a:lnTo>
                <a:lnTo>
                  <a:pt x="65" y="200706"/>
                </a:lnTo>
                <a:cubicBezTo>
                  <a:pt x="0" y="172714"/>
                  <a:pt x="2317" y="149486"/>
                  <a:pt x="2252" y="12149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dt" idx="10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A5664F-B59F-44C2-835A-F4674F1C424E}" type="datetime">
              <a:rPr b="0" lang="en-US" sz="900" spc="-1" strike="noStrike">
                <a:solidFill>
                  <a:srgbClr val="4d4d4d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ftr" idx="11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sldNum" idx="12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8C2E34-55CC-4D9E-9952-C92E7FD0A67B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95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</p:grpSp>
      <p:sp>
        <p:nvSpPr>
          <p:cNvPr id="197" name="Freeform 8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8" name="Freeform 9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199" name="Freeform 10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0" name="Freeform 11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 type="dt" idx="13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EEE5D2-760D-4DD9-B5DA-8A0D80936747}" type="datetime">
              <a:rPr b="0" lang="en-US" sz="900" spc="-1" strike="noStrike">
                <a:solidFill>
                  <a:srgbClr val="4d4d4d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ftr" idx="14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sldNum" idx="15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CBEE46-E1EE-40CE-A580-6AB393C7880D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43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</p:grpSp>
      <p:sp>
        <p:nvSpPr>
          <p:cNvPr id="245" name="Freeform 8"/>
          <p:cNvSpPr/>
          <p:nvPr/>
        </p:nvSpPr>
        <p:spPr>
          <a:xfrm>
            <a:off x="1808280" y="6148440"/>
            <a:ext cx="7337160" cy="711000"/>
          </a:xfrm>
          <a:custGeom>
            <a:avLst/>
            <a:gdLst/>
            <a:ahLst/>
            <a:rect l="l" t="t" r="r" b="b"/>
            <a:pathLst>
              <a:path w="7323733" h="675379">
                <a:moveTo>
                  <a:pt x="0" y="673445"/>
                </a:moveTo>
                <a:lnTo>
                  <a:pt x="7323733" y="0"/>
                </a:lnTo>
                <a:cubicBezTo>
                  <a:pt x="7322149" y="222867"/>
                  <a:pt x="7322943" y="452512"/>
                  <a:pt x="7321359" y="675379"/>
                </a:cubicBezTo>
                <a:lnTo>
                  <a:pt x="0" y="673445"/>
                </a:ln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6" name="Freeform 9"/>
          <p:cNvSpPr/>
          <p:nvPr/>
        </p:nvSpPr>
        <p:spPr>
          <a:xfrm>
            <a:off x="0" y="5457960"/>
            <a:ext cx="7238880" cy="1400040"/>
          </a:xfrm>
          <a:custGeom>
            <a:avLst/>
            <a:gdLst/>
            <a:ahLst/>
            <a:rect l="l" t="t" r="r" b="b"/>
            <a:pathLst>
              <a:path w="7216426" h="1400175">
                <a:moveTo>
                  <a:pt x="0" y="0"/>
                </a:moveTo>
                <a:lnTo>
                  <a:pt x="7216426" y="866775"/>
                </a:lnTo>
                <a:lnTo>
                  <a:pt x="1823096" y="1400175"/>
                </a:lnTo>
                <a:lnTo>
                  <a:pt x="0" y="140017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662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7" name="Freeform 10"/>
          <p:cNvSpPr/>
          <p:nvPr/>
        </p:nvSpPr>
        <p:spPr>
          <a:xfrm>
            <a:off x="0" y="5411880"/>
            <a:ext cx="7605720" cy="928440"/>
          </a:xfrm>
          <a:custGeom>
            <a:avLst/>
            <a:gdLst/>
            <a:ahLst/>
            <a:rect l="l" t="t" r="r" b="b"/>
            <a:pathLst>
              <a:path w="7605568" h="927910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7225392" y="927910"/>
                </a:lnTo>
                <a:lnTo>
                  <a:pt x="7605568" y="897732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8" name="Freeform 11"/>
          <p:cNvSpPr/>
          <p:nvPr/>
        </p:nvSpPr>
        <p:spPr>
          <a:xfrm>
            <a:off x="1681200" y="6116760"/>
            <a:ext cx="7464240" cy="741240"/>
          </a:xfrm>
          <a:custGeom>
            <a:avLst/>
            <a:gdLst/>
            <a:ahLst/>
            <a:rect l="l" t="t" r="r" b="b"/>
            <a:pathLst>
              <a:path w="7465656" h="741493">
                <a:moveTo>
                  <a:pt x="7465656" y="0"/>
                </a:moveTo>
                <a:lnTo>
                  <a:pt x="0" y="741493"/>
                </a:lnTo>
                <a:lnTo>
                  <a:pt x="755341" y="741492"/>
                </a:lnTo>
                <a:lnTo>
                  <a:pt x="7465656" y="74645"/>
                </a:lnTo>
                <a:lnTo>
                  <a:pt x="7465656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6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2BDF08-492C-4FC7-9D77-A44B3A8174F3}" type="datetime">
              <a:rPr b="0" lang="en-US" sz="900" spc="-1" strike="noStrike">
                <a:solidFill>
                  <a:srgbClr val="4d4d4d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17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18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A5D108-9C99-4EED-AA01-0541EC5E5A2F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0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91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</p:grpSp>
      <p:sp>
        <p:nvSpPr>
          <p:cNvPr id="293" name="Freeform 8"/>
          <p:cNvSpPr/>
          <p:nvPr/>
        </p:nvSpPr>
        <p:spPr>
          <a:xfrm>
            <a:off x="0" y="5010120"/>
            <a:ext cx="7439040" cy="1571760"/>
          </a:xfrm>
          <a:custGeom>
            <a:avLst/>
            <a:gdLst/>
            <a:ahLst/>
            <a:rect l="l" t="t" r="r" b="b"/>
            <a:pathLst>
              <a:path w="7415827" h="1571625">
                <a:moveTo>
                  <a:pt x="0" y="0"/>
                </a:moveTo>
                <a:lnTo>
                  <a:pt x="7415827" y="866775"/>
                </a:lnTo>
                <a:lnTo>
                  <a:pt x="0" y="157162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4" name="Freeform 9"/>
          <p:cNvSpPr/>
          <p:nvPr/>
        </p:nvSpPr>
        <p:spPr>
          <a:xfrm>
            <a:off x="0" y="5730840"/>
            <a:ext cx="9147240" cy="1127160"/>
          </a:xfrm>
          <a:custGeom>
            <a:avLst/>
            <a:gdLst/>
            <a:ahLst/>
            <a:rect l="l" t="t" r="r" b="b"/>
            <a:pathLst>
              <a:path w="9128161" h="1068407">
                <a:moveTo>
                  <a:pt x="20" y="818007"/>
                </a:moveTo>
                <a:lnTo>
                  <a:pt x="9124990" y="0"/>
                </a:lnTo>
                <a:cubicBezTo>
                  <a:pt x="9124198" y="354630"/>
                  <a:pt x="9128161" y="713777"/>
                  <a:pt x="9127369" y="1068407"/>
                </a:cubicBezTo>
                <a:lnTo>
                  <a:pt x="0" y="1065657"/>
                </a:lnTo>
                <a:cubicBezTo>
                  <a:pt x="7" y="983107"/>
                  <a:pt x="13" y="900557"/>
                  <a:pt x="20" y="818007"/>
                </a:cubicBez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5" name="Freeform 10"/>
          <p:cNvSpPr/>
          <p:nvPr/>
        </p:nvSpPr>
        <p:spPr>
          <a:xfrm>
            <a:off x="0" y="4973760"/>
            <a:ext cx="7675560" cy="928440"/>
          </a:xfrm>
          <a:custGeom>
            <a:avLst/>
            <a:gdLst/>
            <a:ahLst/>
            <a:rect l="l" t="t" r="r" b="b"/>
            <a:pathLst>
              <a:path w="7674867" h="928299">
                <a:moveTo>
                  <a:pt x="194" y="0"/>
                </a:moveTo>
                <a:cubicBezTo>
                  <a:pt x="129" y="24947"/>
                  <a:pt x="65" y="49893"/>
                  <a:pt x="0" y="74840"/>
                </a:cubicBezTo>
                <a:lnTo>
                  <a:pt x="7298289" y="928299"/>
                </a:lnTo>
                <a:lnTo>
                  <a:pt x="7674867" y="897731"/>
                </a:lnTo>
                <a:lnTo>
                  <a:pt x="19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6" name="Freeform 11"/>
          <p:cNvSpPr/>
          <p:nvPr/>
        </p:nvSpPr>
        <p:spPr>
          <a:xfrm>
            <a:off x="-3240" y="5695920"/>
            <a:ext cx="9147240" cy="930240"/>
          </a:xfrm>
          <a:custGeom>
            <a:avLst/>
            <a:gdLst/>
            <a:ahLst/>
            <a:rect l="l" t="t" r="r" b="b"/>
            <a:pathLst>
              <a:path w="9155715" h="930294">
                <a:moveTo>
                  <a:pt x="9155715" y="0"/>
                </a:moveTo>
                <a:lnTo>
                  <a:pt x="0" y="855842"/>
                </a:lnTo>
                <a:cubicBezTo>
                  <a:pt x="795" y="884628"/>
                  <a:pt x="1589" y="901508"/>
                  <a:pt x="2384" y="930294"/>
                </a:cubicBezTo>
                <a:lnTo>
                  <a:pt x="9155715" y="74452"/>
                </a:lnTo>
                <a:lnTo>
                  <a:pt x="915571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19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BAF54AB-40C6-4839-88C6-EA01B4AD9E6A}" type="datetime">
              <a:rPr b="0" lang="en-US" sz="900" spc="-1" strike="noStrike">
                <a:solidFill>
                  <a:srgbClr val="4d4d4d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ftr" idx="20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sldNum" idx="21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8069DD6-0EDA-46BD-A583-CFED9DD8A788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39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</p:grpSp>
      <p:sp>
        <p:nvSpPr>
          <p:cNvPr id="341" name="Freeform 8"/>
          <p:cNvSpPr/>
          <p:nvPr/>
        </p:nvSpPr>
        <p:spPr>
          <a:xfrm>
            <a:off x="0" y="5730840"/>
            <a:ext cx="9147240" cy="1127160"/>
          </a:xfrm>
          <a:custGeom>
            <a:avLst/>
            <a:gdLst/>
            <a:ahLst/>
            <a:rect l="l" t="t" r="r" b="b"/>
            <a:pathLst>
              <a:path w="9128161" h="1068407">
                <a:moveTo>
                  <a:pt x="20" y="818007"/>
                </a:moveTo>
                <a:lnTo>
                  <a:pt x="9124990" y="0"/>
                </a:lnTo>
                <a:cubicBezTo>
                  <a:pt x="9124198" y="354630"/>
                  <a:pt x="9128161" y="713777"/>
                  <a:pt x="9127369" y="1068407"/>
                </a:cubicBezTo>
                <a:lnTo>
                  <a:pt x="0" y="1065657"/>
                </a:lnTo>
                <a:cubicBezTo>
                  <a:pt x="7" y="983107"/>
                  <a:pt x="13" y="900557"/>
                  <a:pt x="20" y="818007"/>
                </a:cubicBezTo>
                <a:close/>
              </a:path>
            </a:pathLst>
          </a:custGeom>
          <a:gradFill rotWithShape="0">
            <a:gsLst>
              <a:gs pos="0">
                <a:srgbClr val="fac810"/>
              </a:gs>
              <a:gs pos="100000">
                <a:srgbClr val="fac810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2" name="Freeform 9"/>
          <p:cNvSpPr/>
          <p:nvPr/>
        </p:nvSpPr>
        <p:spPr>
          <a:xfrm>
            <a:off x="0" y="5381640"/>
            <a:ext cx="3286080" cy="1208160"/>
          </a:xfrm>
          <a:custGeom>
            <a:avLst/>
            <a:gdLst/>
            <a:ahLst/>
            <a:rect l="l" t="t" r="r" b="b"/>
            <a:pathLst>
              <a:path w="7227290" h="1207294">
                <a:moveTo>
                  <a:pt x="0" y="0"/>
                </a:moveTo>
                <a:lnTo>
                  <a:pt x="7227290" y="885825"/>
                </a:lnTo>
                <a:lnTo>
                  <a:pt x="0" y="1207294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3" name="Freeform 10"/>
          <p:cNvSpPr/>
          <p:nvPr/>
        </p:nvSpPr>
        <p:spPr>
          <a:xfrm>
            <a:off x="-3240" y="5695920"/>
            <a:ext cx="9147240" cy="930240"/>
          </a:xfrm>
          <a:custGeom>
            <a:avLst/>
            <a:gdLst/>
            <a:ahLst/>
            <a:rect l="l" t="t" r="r" b="b"/>
            <a:pathLst>
              <a:path w="9155715" h="930294">
                <a:moveTo>
                  <a:pt x="9155715" y="0"/>
                </a:moveTo>
                <a:lnTo>
                  <a:pt x="0" y="855842"/>
                </a:lnTo>
                <a:cubicBezTo>
                  <a:pt x="795" y="884628"/>
                  <a:pt x="1589" y="901508"/>
                  <a:pt x="2384" y="930294"/>
                </a:cubicBezTo>
                <a:lnTo>
                  <a:pt x="9155715" y="74452"/>
                </a:lnTo>
                <a:lnTo>
                  <a:pt x="915571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4" name="Freeform 11"/>
          <p:cNvSpPr/>
          <p:nvPr/>
        </p:nvSpPr>
        <p:spPr>
          <a:xfrm>
            <a:off x="0" y="5346720"/>
            <a:ext cx="3425760" cy="944640"/>
          </a:xfrm>
          <a:custGeom>
            <a:avLst/>
            <a:gdLst/>
            <a:ahLst/>
            <a:rect l="l" t="t" r="r" b="b"/>
            <a:pathLst>
              <a:path w="3426231" h="944725">
                <a:moveTo>
                  <a:pt x="1" y="0"/>
                </a:moveTo>
                <a:cubicBezTo>
                  <a:pt x="1" y="25222"/>
                  <a:pt x="0" y="50443"/>
                  <a:pt x="0" y="75665"/>
                </a:cubicBezTo>
                <a:lnTo>
                  <a:pt x="3204530" y="944725"/>
                </a:lnTo>
                <a:lnTo>
                  <a:pt x="3426231" y="923877"/>
                </a:lnTo>
                <a:lnTo>
                  <a:pt x="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2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871EEA-ECD0-4C32-ACC3-097CF3E076DB}" type="datetime">
              <a:rPr b="0" lang="en-US" sz="900" spc="-1" strike="noStrike">
                <a:solidFill>
                  <a:srgbClr val="4d4d4d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3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4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2906A8-5DFA-40AB-A65C-AFD972E58EC0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6" name="Rectangle 7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87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Gill Sans MT"/>
              </a:endParaRPr>
            </a:p>
          </p:txBody>
        </p:sp>
      </p:grpSp>
      <p:sp>
        <p:nvSpPr>
          <p:cNvPr id="389" name="Freeform 8"/>
          <p:cNvSpPr/>
          <p:nvPr/>
        </p:nvSpPr>
        <p:spPr>
          <a:xfrm>
            <a:off x="0" y="5010120"/>
            <a:ext cx="7439040" cy="1571760"/>
          </a:xfrm>
          <a:custGeom>
            <a:avLst/>
            <a:gdLst/>
            <a:ahLst/>
            <a:rect l="l" t="t" r="r" b="b"/>
            <a:pathLst>
              <a:path w="7415827" h="1571625">
                <a:moveTo>
                  <a:pt x="0" y="0"/>
                </a:moveTo>
                <a:lnTo>
                  <a:pt x="7415827" y="866775"/>
                </a:lnTo>
                <a:lnTo>
                  <a:pt x="0" y="1571625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0" name="Freeform 9"/>
          <p:cNvSpPr/>
          <p:nvPr/>
        </p:nvSpPr>
        <p:spPr>
          <a:xfrm>
            <a:off x="0" y="5730840"/>
            <a:ext cx="9147240" cy="1127160"/>
          </a:xfrm>
          <a:custGeom>
            <a:avLst/>
            <a:gdLst/>
            <a:ahLst/>
            <a:rect l="l" t="t" r="r" b="b"/>
            <a:pathLst>
              <a:path w="9128161" h="1068407">
                <a:moveTo>
                  <a:pt x="20" y="818007"/>
                </a:moveTo>
                <a:lnTo>
                  <a:pt x="9124990" y="0"/>
                </a:lnTo>
                <a:cubicBezTo>
                  <a:pt x="9124198" y="354630"/>
                  <a:pt x="9128161" y="713777"/>
                  <a:pt x="9127369" y="1068407"/>
                </a:cubicBezTo>
                <a:lnTo>
                  <a:pt x="0" y="1065657"/>
                </a:lnTo>
                <a:cubicBezTo>
                  <a:pt x="7" y="983107"/>
                  <a:pt x="13" y="900557"/>
                  <a:pt x="20" y="818007"/>
                </a:cubicBezTo>
                <a:close/>
              </a:path>
            </a:pathLst>
          </a:custGeom>
          <a:gradFill rotWithShape="0">
            <a:gsLst>
              <a:gs pos="0">
                <a:srgbClr val="86ce24"/>
              </a:gs>
              <a:gs pos="100000">
                <a:srgbClr val="86ce24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1" name="Freeform 10"/>
          <p:cNvSpPr/>
          <p:nvPr/>
        </p:nvSpPr>
        <p:spPr>
          <a:xfrm>
            <a:off x="0" y="4973760"/>
            <a:ext cx="7675560" cy="928440"/>
          </a:xfrm>
          <a:custGeom>
            <a:avLst/>
            <a:gdLst/>
            <a:ahLst/>
            <a:rect l="l" t="t" r="r" b="b"/>
            <a:pathLst>
              <a:path w="7674867" h="928299">
                <a:moveTo>
                  <a:pt x="194" y="0"/>
                </a:moveTo>
                <a:cubicBezTo>
                  <a:pt x="129" y="24947"/>
                  <a:pt x="65" y="49893"/>
                  <a:pt x="0" y="74840"/>
                </a:cubicBezTo>
                <a:lnTo>
                  <a:pt x="7298289" y="928299"/>
                </a:lnTo>
                <a:lnTo>
                  <a:pt x="7674867" y="897731"/>
                </a:lnTo>
                <a:lnTo>
                  <a:pt x="194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2" name="Freeform 11"/>
          <p:cNvSpPr/>
          <p:nvPr/>
        </p:nvSpPr>
        <p:spPr>
          <a:xfrm>
            <a:off x="-3240" y="5695920"/>
            <a:ext cx="9147240" cy="930240"/>
          </a:xfrm>
          <a:custGeom>
            <a:avLst/>
            <a:gdLst/>
            <a:ahLst/>
            <a:rect l="l" t="t" r="r" b="b"/>
            <a:pathLst>
              <a:path w="9155715" h="930294">
                <a:moveTo>
                  <a:pt x="9155715" y="0"/>
                </a:moveTo>
                <a:lnTo>
                  <a:pt x="0" y="855842"/>
                </a:lnTo>
                <a:cubicBezTo>
                  <a:pt x="795" y="884628"/>
                  <a:pt x="1589" y="901508"/>
                  <a:pt x="2384" y="930294"/>
                </a:cubicBezTo>
                <a:lnTo>
                  <a:pt x="9155715" y="74452"/>
                </a:lnTo>
                <a:lnTo>
                  <a:pt x="915571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1" marL="74304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2" marL="11430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3" marL="16002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4" marL="2057400" indent="-27288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5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lvl="6" marL="2057400" indent="-272880">
              <a:spcBef>
                <a:spcPts val="700"/>
              </a:spcBef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40044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A8AC0E-BAE4-48C7-9A96-BF64AC669BF7}" type="datetime">
              <a:rPr b="0" lang="en-US" sz="900" spc="-1" strike="noStrike">
                <a:solidFill>
                  <a:srgbClr val="4d4d4d"/>
                </a:solidFill>
                <a:latin typeface="Times New Roman"/>
              </a:rPr>
              <a:t>07/28/26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22824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1" lang="en-US" sz="11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399D7B-A939-4D07-80C6-9CD24B9EBDA6}" type="slidenum">
              <a:rPr b="1" lang="en-US" sz="11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1640" y="1676160"/>
            <a:ext cx="3886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CHISPAS</a:t>
            </a: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4571640" y="3203280"/>
            <a:ext cx="3886200" cy="18255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4d4d4"/>
                </a:solidFill>
                <a:latin typeface="Gill Sans MT"/>
              </a:rPr>
              <a:t>1</a:t>
            </a:r>
            <a:r>
              <a:rPr b="0" lang="en-US" sz="2000" spc="-1" strike="noStrike" baseline="30000">
                <a:solidFill>
                  <a:srgbClr val="d4d4d4"/>
                </a:solidFill>
                <a:latin typeface="Gill Sans MT"/>
              </a:rPr>
              <a:t>st</a:t>
            </a:r>
            <a:r>
              <a:rPr b="0" lang="en-US" sz="2000" spc="-1" strike="noStrike">
                <a:solidFill>
                  <a:srgbClr val="d4d4d4"/>
                </a:solidFill>
                <a:latin typeface="Gill Sans MT"/>
              </a:rPr>
              <a:t> year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4d4d4"/>
                </a:solidFill>
                <a:latin typeface="Gill Sans MT"/>
              </a:rPr>
              <a:t>1.3</a:t>
            </a:r>
            <a:endParaRPr b="0" lang="en-US" sz="2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0" name="Footer Placeholder 4"/>
          <p:cNvSpPr/>
          <p:nvPr/>
        </p:nvSpPr>
        <p:spPr>
          <a:xfrm>
            <a:off x="2286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1" name="Slide Number Placeholder 5"/>
          <p:cNvSpPr/>
          <p:nvPr/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BE4DBC-890F-47DA-8744-1FE9671D5034}" type="slidenum">
              <a:rPr b="1" lang="en-US" sz="1100" spc="-1" strike="noStrike">
                <a:solidFill>
                  <a:srgbClr val="4d4d4d"/>
                </a:solidFill>
                <a:latin typeface="Gill Sans MT"/>
                <a:ea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MY FAMILY IS BIG.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Mi familia es grande</a:t>
            </a: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4" name="Date Placeholder 3"/>
          <p:cNvSpPr/>
          <p:nvPr/>
        </p:nvSpPr>
        <p:spPr>
          <a:xfrm>
            <a:off x="640080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4195DB-BF15-4B79-AF65-70F5D52D1BB2}" type="datetime">
              <a:rPr b="0" lang="en-US" sz="900" spc="-1" strike="noStrike">
                <a:solidFill>
                  <a:srgbClr val="4d4d4d"/>
                </a:solidFill>
                <a:latin typeface="Gill Sans MT"/>
              </a:rPr>
              <a:t>07/28/26</a:t>
            </a:fld>
            <a:endParaRPr b="0" lang="en-US" sz="9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5" name="Footer Placeholder 4"/>
          <p:cNvSpPr/>
          <p:nvPr/>
        </p:nvSpPr>
        <p:spPr>
          <a:xfrm>
            <a:off x="2286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6" name="Slide Number Placeholder 5"/>
          <p:cNvSpPr/>
          <p:nvPr/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08332C-CFAA-4DE6-BEA6-641E8850736C}" type="slidenum">
              <a:rPr b="1" lang="en-US" sz="1100" spc="-1" strike="noStrike">
                <a:solidFill>
                  <a:srgbClr val="4d4d4d"/>
                </a:solidFill>
                <a:latin typeface="Gill Sans MT"/>
                <a:ea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THEIR RED JACKETS.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Sus chaquetas rojas</a:t>
            </a: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9" name="Date Placeholder 3"/>
          <p:cNvSpPr/>
          <p:nvPr/>
        </p:nvSpPr>
        <p:spPr>
          <a:xfrm>
            <a:off x="640080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E3169E-64F7-42CA-8FE0-69E04F4AA79F}" type="datetime">
              <a:rPr b="0" lang="en-US" sz="900" spc="-1" strike="noStrike">
                <a:solidFill>
                  <a:srgbClr val="4d4d4d"/>
                </a:solidFill>
                <a:latin typeface="Gill Sans MT"/>
              </a:rPr>
              <a:t>07/28/26</a:t>
            </a:fld>
            <a:endParaRPr b="0" lang="en-US" sz="9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0" name="Footer Placeholder 4"/>
          <p:cNvSpPr/>
          <p:nvPr/>
        </p:nvSpPr>
        <p:spPr>
          <a:xfrm>
            <a:off x="2286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1" name="Slide Number Placeholder 5"/>
          <p:cNvSpPr/>
          <p:nvPr/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3EDE23F-BEDF-49DD-B5E2-EC090C211D04}" type="slidenum">
              <a:rPr b="1" lang="en-US" sz="1100" spc="-1" strike="noStrike">
                <a:solidFill>
                  <a:srgbClr val="4d4d4d"/>
                </a:solidFill>
                <a:latin typeface="Gill Sans MT"/>
                <a:ea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4" dur="500"/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OUR BLUE HOUSE.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Nuestra casa azul</a:t>
            </a: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4" name="Date Placeholder 3"/>
          <p:cNvSpPr/>
          <p:nvPr/>
        </p:nvSpPr>
        <p:spPr>
          <a:xfrm>
            <a:off x="640080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449304-1949-4329-9756-4C91E102339F}" type="datetime">
              <a:rPr b="0" lang="en-US" sz="900" spc="-1" strike="noStrike">
                <a:solidFill>
                  <a:srgbClr val="4d4d4d"/>
                </a:solidFill>
                <a:latin typeface="Gill Sans MT"/>
              </a:rPr>
              <a:t>07/28/26</a:t>
            </a:fld>
            <a:endParaRPr b="0" lang="en-US" sz="9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5" name="Footer Placeholder 4"/>
          <p:cNvSpPr/>
          <p:nvPr/>
        </p:nvSpPr>
        <p:spPr>
          <a:xfrm>
            <a:off x="2286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6" name="Slide Number Placeholder 5"/>
          <p:cNvSpPr/>
          <p:nvPr/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13329B-59D4-4B0B-A200-068C91E7CCB7}" type="slidenum">
              <a:rPr b="1" lang="en-US" sz="1100" spc="-1" strike="noStrike">
                <a:solidFill>
                  <a:srgbClr val="4d4d4d"/>
                </a:solidFill>
                <a:latin typeface="Gill Sans MT"/>
                <a:ea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1" dur="500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SRA. PRINE’S SMART STUDENTS</a:t>
            </a:r>
            <a:r>
              <a:rPr b="0" lang="en-US" sz="3600" spc="-1" strike="noStrike">
                <a:solidFill>
                  <a:srgbClr val="ffffff"/>
                </a:solidFill>
                <a:latin typeface="Gill Sans MT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Los estudiantes inteligentes de la Sra. Prine</a:t>
            </a: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39" name="Date Placeholder 3"/>
          <p:cNvSpPr/>
          <p:nvPr/>
        </p:nvSpPr>
        <p:spPr>
          <a:xfrm>
            <a:off x="640080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0C14B4-0A48-4181-8E1D-AAFF8672FE89}" type="datetime">
              <a:rPr b="0" lang="en-US" sz="900" spc="-1" strike="noStrike">
                <a:solidFill>
                  <a:srgbClr val="4d4d4d"/>
                </a:solidFill>
                <a:latin typeface="Gill Sans MT"/>
              </a:rPr>
              <a:t>07/28/26</a:t>
            </a:fld>
            <a:endParaRPr b="0" lang="en-US" sz="9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40" name="Footer Placeholder 4"/>
          <p:cNvSpPr/>
          <p:nvPr/>
        </p:nvSpPr>
        <p:spPr>
          <a:xfrm>
            <a:off x="2286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41" name="Slide Number Placeholder 5"/>
          <p:cNvSpPr/>
          <p:nvPr/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D63553-F507-4D80-AD81-25F4C99DEE75}" type="slidenum">
              <a:rPr b="1" lang="en-US" sz="1100" spc="-1" strike="noStrike">
                <a:solidFill>
                  <a:srgbClr val="4d4d4d"/>
                </a:solidFill>
                <a:latin typeface="Gill Sans MT"/>
                <a:ea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SANDRA’S RED SHIRT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La camisa roja de Sandra</a:t>
            </a: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4" name="Date Placeholder 3"/>
          <p:cNvSpPr/>
          <p:nvPr/>
        </p:nvSpPr>
        <p:spPr>
          <a:xfrm>
            <a:off x="640080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636DD2-8E66-4032-86F1-D4D273A563C9}" type="datetime">
              <a:rPr b="0" lang="en-US" sz="900" spc="-1" strike="noStrike">
                <a:solidFill>
                  <a:srgbClr val="4d4d4d"/>
                </a:solidFill>
                <a:latin typeface="Gill Sans MT"/>
              </a:rPr>
              <a:t>07/28/26</a:t>
            </a:fld>
            <a:endParaRPr b="0" lang="en-US" sz="9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5" name="Footer Placeholder 4"/>
          <p:cNvSpPr/>
          <p:nvPr/>
        </p:nvSpPr>
        <p:spPr>
          <a:xfrm>
            <a:off x="2286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6" name="Slide Number Placeholder 5"/>
          <p:cNvSpPr/>
          <p:nvPr/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7CA3D5-6ADD-4274-9A47-1C394D627477}" type="slidenum">
              <a:rPr b="1" lang="en-US" sz="1100" spc="-1" strike="noStrike">
                <a:solidFill>
                  <a:srgbClr val="4d4d4d"/>
                </a:solidFill>
                <a:latin typeface="Gill Sans MT"/>
                <a:ea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THE STUDENTS’ HOMEWORK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MT"/>
              </a:rPr>
              <a:t>La tarea de los estudiantes</a:t>
            </a:r>
            <a:endParaRPr b="0" lang="en-US" sz="4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89" name="Date Placeholder 3"/>
          <p:cNvSpPr/>
          <p:nvPr/>
        </p:nvSpPr>
        <p:spPr>
          <a:xfrm>
            <a:off x="640080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B11FBB-0437-49AB-BA69-C8875F004D8B}" type="datetime">
              <a:rPr b="0" lang="en-US" sz="900" spc="-1" strike="noStrike">
                <a:solidFill>
                  <a:srgbClr val="4d4d4d"/>
                </a:solidFill>
                <a:latin typeface="Gill Sans MT"/>
              </a:rPr>
              <a:t>07/28/26</a:t>
            </a:fld>
            <a:endParaRPr b="0" lang="en-US" sz="9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0" name="Footer Placeholder 4"/>
          <p:cNvSpPr/>
          <p:nvPr/>
        </p:nvSpPr>
        <p:spPr>
          <a:xfrm>
            <a:off x="2286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1" name="Slide Number Placeholder 5"/>
          <p:cNvSpPr/>
          <p:nvPr/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0F19E5-D061-4065-B9CF-1348D93674E6}" type="slidenum">
              <a:rPr b="1" lang="en-US" sz="1100" spc="-1" strike="noStrike">
                <a:solidFill>
                  <a:srgbClr val="4d4d4d"/>
                </a:solidFill>
                <a:latin typeface="Gill Sans MT"/>
                <a:ea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7772400" cy="178272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WHO’S SHOES ARE THESE?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ill Sans MT"/>
            </a:endParaRPr>
          </a:p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MT"/>
              </a:rPr>
              <a:t>¿De quién son los zapatos?</a:t>
            </a:r>
            <a:endParaRPr b="0" lang="en-US" sz="4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4" name="Date Placeholder 3"/>
          <p:cNvSpPr/>
          <p:nvPr/>
        </p:nvSpPr>
        <p:spPr>
          <a:xfrm>
            <a:off x="640080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A439CF-C0FD-4BC8-878F-1B2CCE730D98}" type="datetime">
              <a:rPr b="0" lang="en-US" sz="900" spc="-1" strike="noStrike">
                <a:solidFill>
                  <a:srgbClr val="4d4d4d"/>
                </a:solidFill>
                <a:latin typeface="Gill Sans MT"/>
              </a:rPr>
              <a:t>07/28/26</a:t>
            </a:fld>
            <a:endParaRPr b="0" lang="en-US" sz="9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5" name="Footer Placeholder 4"/>
          <p:cNvSpPr/>
          <p:nvPr/>
        </p:nvSpPr>
        <p:spPr>
          <a:xfrm>
            <a:off x="2286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6" name="Slide Number Placeholder 5"/>
          <p:cNvSpPr/>
          <p:nvPr/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A1D416-44E1-49AF-ACC1-5D162760FBBB}" type="slidenum">
              <a:rPr b="1" lang="en-US" sz="1100" spc="-1" strike="noStrike">
                <a:solidFill>
                  <a:srgbClr val="4d4d4d"/>
                </a:solidFill>
                <a:latin typeface="Gill Sans MT"/>
                <a:ea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THE SHOES ARE TIMOTEO’S</a:t>
            </a: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8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MT"/>
              </a:rPr>
              <a:t>Los zapatos son de Timoteo</a:t>
            </a:r>
            <a:endParaRPr b="0" lang="en-US" sz="4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599" name="Date Placeholder 3"/>
          <p:cNvSpPr/>
          <p:nvPr/>
        </p:nvSpPr>
        <p:spPr>
          <a:xfrm>
            <a:off x="640080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22553B-13ED-4499-BFC1-41F0FD8BB749}" type="datetime">
              <a:rPr b="0" lang="en-US" sz="900" spc="-1" strike="noStrike">
                <a:solidFill>
                  <a:srgbClr val="4d4d4d"/>
                </a:solidFill>
                <a:latin typeface="Gill Sans MT"/>
              </a:rPr>
              <a:t>07/28/26</a:t>
            </a:fld>
            <a:endParaRPr b="0" lang="en-US" sz="9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0" name="Footer Placeholder 4"/>
          <p:cNvSpPr/>
          <p:nvPr/>
        </p:nvSpPr>
        <p:spPr>
          <a:xfrm>
            <a:off x="2286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1" name="Slide Number Placeholder 5"/>
          <p:cNvSpPr/>
          <p:nvPr/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60C3A5A-3F68-48CA-A1F2-737DDF6F592D}" type="slidenum">
              <a:rPr b="1" lang="en-US" sz="1100" spc="-1" strike="noStrike">
                <a:solidFill>
                  <a:srgbClr val="4d4d4d"/>
                </a:solidFill>
                <a:latin typeface="Gill Sans MT"/>
                <a:ea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ritannic Bold"/>
              </a:rPr>
              <a:t>THE CAT IS MY FRIEND LISA’S</a:t>
            </a:r>
            <a:endParaRPr b="0" lang="en-US" sz="3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MT"/>
              </a:rPr>
              <a:t>El gato es de mi amiga Lisa</a:t>
            </a:r>
            <a:endParaRPr b="0" lang="en-US" sz="4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4" name="Date Placeholder 3"/>
          <p:cNvSpPr/>
          <p:nvPr/>
        </p:nvSpPr>
        <p:spPr>
          <a:xfrm>
            <a:off x="640080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207717-776A-455B-AF5A-B26E9A96810E}" type="datetime">
              <a:rPr b="0" lang="en-US" sz="900" spc="-1" strike="noStrike">
                <a:solidFill>
                  <a:srgbClr val="4d4d4d"/>
                </a:solidFill>
                <a:latin typeface="Gill Sans MT"/>
              </a:rPr>
              <a:t>07/28/26</a:t>
            </a:fld>
            <a:endParaRPr b="0" lang="en-US" sz="9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5" name="Footer Placeholder 4"/>
          <p:cNvSpPr/>
          <p:nvPr/>
        </p:nvSpPr>
        <p:spPr>
          <a:xfrm>
            <a:off x="2286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6" name="Slide Number Placeholder 5"/>
          <p:cNvSpPr/>
          <p:nvPr/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A5213C-E071-4E7B-A272-EEEDEA560B3E}" type="slidenum">
              <a:rPr b="1" lang="en-US" sz="1100" spc="-1" strike="noStrike">
                <a:solidFill>
                  <a:srgbClr val="4d4d4d"/>
                </a:solidFill>
                <a:latin typeface="Gill Sans MT"/>
                <a:ea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itannic Bold"/>
              </a:rPr>
              <a:t>THE BROTHER OF YOUR MOTHER IS YOUR UNCLE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Gill Sans MT"/>
              </a:rPr>
              <a:t>El hermano de tu madre es tu tío</a:t>
            </a:r>
            <a:endParaRPr b="0" lang="en-US" sz="4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09" name="Date Placeholder 3"/>
          <p:cNvSpPr/>
          <p:nvPr/>
        </p:nvSpPr>
        <p:spPr>
          <a:xfrm>
            <a:off x="640080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75CBE6-8054-4C27-B4C4-29724846737E}" type="datetime">
              <a:rPr b="0" lang="en-US" sz="900" spc="-1" strike="noStrike">
                <a:solidFill>
                  <a:srgbClr val="4d4d4d"/>
                </a:solidFill>
                <a:latin typeface="Gill Sans MT"/>
              </a:rPr>
              <a:t>07/28/26</a:t>
            </a:fld>
            <a:endParaRPr b="0" lang="en-US" sz="9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0" name="Footer Placeholder 4"/>
          <p:cNvSpPr/>
          <p:nvPr/>
        </p:nvSpPr>
        <p:spPr>
          <a:xfrm>
            <a:off x="2286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1" name="Slide Number Placeholder 5"/>
          <p:cNvSpPr/>
          <p:nvPr/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749FAA-E3A2-4D7E-9010-68783E6E284C}" type="slidenum">
              <a:rPr b="1" lang="en-US" sz="1100" spc="-1" strike="noStrike">
                <a:solidFill>
                  <a:srgbClr val="4d4d4d"/>
                </a:solidFill>
                <a:latin typeface="Gill Sans MT"/>
                <a:ea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6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itannic Bold"/>
              </a:rPr>
              <a:t>MIGUEL’S FRIENDS (MASC) ARE VERY FUN.</a:t>
            </a:r>
            <a:r>
              <a:rPr b="0" lang="en-US" sz="3200" spc="-1" strike="noStrike">
                <a:solidFill>
                  <a:srgbClr val="ffffff"/>
                </a:solidFill>
                <a:latin typeface="Gill Sans MT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Los amigos de Miguel son muy divertidos.</a:t>
            </a: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4" name="Date Placeholder 3"/>
          <p:cNvSpPr/>
          <p:nvPr/>
        </p:nvSpPr>
        <p:spPr>
          <a:xfrm>
            <a:off x="640080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2EC3FC-9ECF-480B-B128-77F0CB2B5101}" type="datetime">
              <a:rPr b="0" lang="en-US" sz="900" spc="-1" strike="noStrike">
                <a:solidFill>
                  <a:srgbClr val="4d4d4d"/>
                </a:solidFill>
                <a:latin typeface="Gill Sans MT"/>
              </a:rPr>
              <a:t>07/28/26</a:t>
            </a:fld>
            <a:endParaRPr b="0" lang="en-US" sz="9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5" name="Footer Placeholder 4"/>
          <p:cNvSpPr/>
          <p:nvPr/>
        </p:nvSpPr>
        <p:spPr>
          <a:xfrm>
            <a:off x="2286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6" name="Slide Number Placeholder 5"/>
          <p:cNvSpPr/>
          <p:nvPr/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33E863-A1D7-4AF0-BD33-3521D1CEC51E}" type="slidenum">
              <a:rPr b="1" lang="en-US" sz="1100" spc="-1" strike="noStrike">
                <a:solidFill>
                  <a:srgbClr val="4d4d4d"/>
                </a:solidFill>
                <a:latin typeface="Gill Sans MT"/>
                <a:ea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9" dur="50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ritannic Bold"/>
              </a:rPr>
              <a:t>RAFAEL AND ANDRES ARE BROTHERS</a:t>
            </a:r>
            <a:r>
              <a:rPr b="0" lang="en-US" sz="3200" spc="-1" strike="noStrike">
                <a:solidFill>
                  <a:srgbClr val="ffffff"/>
                </a:solidFill>
                <a:latin typeface="Britannic Bold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685800" y="160020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343080" indent="-273240">
              <a:spcBef>
                <a:spcPts val="700"/>
              </a:spcBef>
              <a:buClr>
                <a:srgbClr val="86ce24"/>
              </a:buClr>
              <a:buSzPct val="85000"/>
              <a:buFont typeface="Wingdings 3" charset="2"/>
              <a:buChar char="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Gill Sans MT"/>
              </a:rPr>
              <a:t>Rafael y Andres son hermanos</a:t>
            </a:r>
            <a:endParaRPr b="0" lang="en-US" sz="40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19" name="Date Placeholder 3"/>
          <p:cNvSpPr/>
          <p:nvPr/>
        </p:nvSpPr>
        <p:spPr>
          <a:xfrm>
            <a:off x="6400800" y="641664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94009A-D8DE-4125-9E3F-DD612AC65FA2}" type="datetime">
              <a:rPr b="0" lang="en-US" sz="900" spc="-1" strike="noStrike">
                <a:solidFill>
                  <a:srgbClr val="4d4d4d"/>
                </a:solidFill>
                <a:latin typeface="Gill Sans MT"/>
              </a:rPr>
              <a:t>07/28/26</a:t>
            </a:fld>
            <a:endParaRPr b="0" lang="en-US" sz="9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0" name="Footer Placeholder 4"/>
          <p:cNvSpPr/>
          <p:nvPr/>
        </p:nvSpPr>
        <p:spPr>
          <a:xfrm>
            <a:off x="228600" y="6416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621" name="Slide Number Placeholder 5"/>
          <p:cNvSpPr/>
          <p:nvPr/>
        </p:nvSpPr>
        <p:spPr>
          <a:xfrm>
            <a:off x="845820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FB1F26-937E-4A3D-B6CF-28F6FB0618BF}" type="slidenum">
              <a:rPr b="1" lang="en-US" sz="1100" spc="-1" strike="noStrike">
                <a:solidFill>
                  <a:srgbClr val="4d4d4d"/>
                </a:solidFill>
                <a:latin typeface="Gill Sans MT"/>
                <a:ea typeface="Arial"/>
              </a:rPr>
              <a:t>&lt;number&gt;</a:t>
            </a:fld>
            <a:endParaRPr b="0" lang="en-US" sz="1100" spc="-1" strike="noStrike">
              <a:solidFill>
                <a:srgbClr val="ffffff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17:15:22Z</dcterms:created>
  <dc:creator>Prine, Stephanie</dc:creator>
  <dc:description/>
  <dc:language>en-US</dc:language>
  <cp:lastModifiedBy>Prine, Stephanie</cp:lastModifiedBy>
  <dcterms:modified xsi:type="dcterms:W3CDTF">2013-11-15T20:22:03Z</dcterms:modified>
  <cp:revision>15</cp:revision>
  <dc:subject/>
  <dc:title>Chispas</dc:title>
</cp:coreProperties>
</file>